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182-CB07-4347-A14B-F69F1093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0A1-681B-477E-BE34-77E8C071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5CC-55CE-4F86-BE77-AAF46DF9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748-A27D-4874-928A-0999E9AE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6439-F979-4D49-914C-F055646F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E506-2CF3-439A-B843-140979B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392D-FF46-4D0E-BBB1-EE71CC67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5B64-2A63-40B0-9FDB-280053D0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F85-688A-4685-AED1-8E795FE9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2E39-DA14-4343-B39B-CF7706B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4A54-4A40-48F4-AEE9-D1BD052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2E9-2B32-49F5-9992-67135BC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AF3-13AE-42BC-9CC3-0FE8164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36DF-48C0-47F3-83DE-B6E26EE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F517-9ECB-4CC0-B362-E7051DB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5F58-F6E8-4163-81DC-000A7EAA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899-63BE-41C4-90A4-2E246EA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175E-C114-430C-987B-A534D751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2404-83F8-4D61-B3F7-5D036D4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7DBA-1CC0-451B-954C-D34EEB4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8DBD-28BA-44E1-B17F-DF64220D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4186-F270-4A89-861B-4F35E550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1A5-F19E-4E9C-9658-D394403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B14C-0C23-4191-A83C-D5126195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DB86-89B4-4847-9705-C82E2D5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84AC-EBE1-4130-BFFE-E5DD5F0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D98D-02DC-44E1-9C84-792BA00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6389-9E64-4095-B922-18673A92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FB62-57DB-4846-B72A-A9CB677D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FAE2-F1DC-415E-8F7D-5825F7A4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BC30-F0C6-493D-B30B-5E040276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5F68-EF2B-4468-A763-B84CBB95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5F2D-083D-4A9C-B25F-FD76F393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AF-1888-4FE9-9DCA-988E460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6DB6-EAF6-4DAE-AECE-D6C1404C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C951-A325-4A7F-A8E9-B3A19F3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D444-9697-4244-8BE1-C763033C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CEB1-5460-47E5-AD01-0E817DCD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826D-1477-4D3B-BE79-904428B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9D0C-56C6-478B-9138-517AA4C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BE58-9364-4B14-BC76-A61E808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762C-F5CE-4C68-A6DA-592221A4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F550-DF8B-4AEF-87D4-C656950D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4C12C-6E59-4C9A-9106-5573E66A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B90-F583-47B9-8AE7-594125C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0AE7-0ED8-4FC6-B7D9-09693D16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1508-361F-49A3-A255-0640CEE8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6D81-A639-4987-8D7A-798F140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F438-8687-46C1-9F04-12182BB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B898-1B9D-4E1B-8E63-B4B4FBEA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3173-118A-4485-915B-7C2B08F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6043-2B9C-46A0-A0A4-393B211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0BC66-0EA2-497A-A3EA-E0B0723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92CD-6A9B-47A9-AA3A-77422E5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84FF-B5C7-46C9-8E2B-5E40F9E8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3A0-EB78-4427-9EC5-CAB695F0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8E12-DE5E-4DBD-B2D2-1BF7C91C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C82E-2093-4D8D-9ED3-633F61F2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05D6-0B9D-4AB0-8A5A-42F234B5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517E-E295-4A4E-BF51-C066D11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574F-8540-4230-9A9E-C4C6F1F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CF55E-EDE2-43FA-A227-7FB8A030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C262-4F3F-47E4-9802-6F383E2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4F32-061A-4B7E-AEA8-F778E20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1037-EFA6-4154-9B89-97F1A39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5D6C1-36B7-42BF-A576-2567F2D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FF7-E3DF-4B3A-97A8-C17DAA0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73CA-127F-48AC-AABD-E37F9086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29E9-5815-46E7-8104-35636D15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6648-F884-4548-8B5A-7B31C135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E341-3ED2-4A8D-BE44-0CE37BB5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7C27-A92D-4D92-A4C6-B4C03A21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0F72-39F3-4BEB-AE09-11E2733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2172-4986-4D64-A74B-E9F4E8E7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2824-472B-4D3E-A679-AC3E6CFC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8DFB6-5888-4CE6-B063-6DC8540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51D0-90DD-459F-B42F-6FB73C4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90D-40A3-447D-9FD2-55116DF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3D42-9C9B-4009-A562-94845C1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877C-0999-47C1-9D80-F5EEA83F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418B-98CD-466F-92E2-4AEDFEF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64C9-3F5C-4F5B-A291-43588158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DA52-77A9-41F8-B59F-2B9BBF62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858-A79D-4BF8-9BA3-B8F46D1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5AD-CC05-4151-8D8B-2AC36BC1537D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CC5-1FE8-4A66-AD2D-14D8C1913B73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E5B-6C5E-46DD-85F5-88BF68A08C27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F488-FD22-4048-84C2-9ABC6041D510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2F1-3356-4E11-BE1B-E17D1035CCBD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3EA-67D9-4C09-A113-682DCF3A874F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5C2C-AADA-4CC9-8704-20CBC659921F}" type="slidenum">
              <a:rPr b="0" lang="en-NZ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Sinergetic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rbel"/>
              </a:rPr>
              <a:t>An interactive GPS-Based tour of Duned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1680" y="160020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First version of the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92160" y="281160"/>
            <a:ext cx="8502480" cy="115092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3" descr="pdamap.jpg"/>
          <p:cNvPicPr/>
          <p:nvPr/>
        </p:nvPicPr>
        <p:blipFill>
          <a:blip r:embed="rId2"/>
          <a:stretch/>
        </p:blipFill>
        <p:spPr>
          <a:xfrm>
            <a:off x="142920" y="1571760"/>
            <a:ext cx="2643120" cy="507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pdaimgview.jpg"/>
          <p:cNvPicPr/>
          <p:nvPr/>
        </p:nvPicPr>
        <p:blipFill>
          <a:blip r:embed="rId3"/>
          <a:stretch/>
        </p:blipFill>
        <p:spPr>
          <a:xfrm>
            <a:off x="6215040" y="1571760"/>
            <a:ext cx="2714760" cy="507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shot001.png"/>
          <p:cNvPicPr/>
          <p:nvPr/>
        </p:nvPicPr>
        <p:blipFill>
          <a:blip r:embed="rId4"/>
          <a:stretch/>
        </p:blipFill>
        <p:spPr>
          <a:xfrm>
            <a:off x="3000240" y="1571760"/>
            <a:ext cx="3071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readme.jpg"/>
          <p:cNvPicPr/>
          <p:nvPr/>
        </p:nvPicPr>
        <p:blipFill>
          <a:blip r:embed="rId2"/>
          <a:stretch/>
        </p:blipFill>
        <p:spPr>
          <a:xfrm>
            <a:off x="1285920" y="1571760"/>
            <a:ext cx="61437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Revised version of PDA Softw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rbel"/>
              </a:rPr>
              <a:t>Implementing feedback from cli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PC-Based Tour Edi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Used to create and manipulate tours stored in an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zard-ba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Designed with the non-technical user in mi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Will ship with a number of tutorials (possibly vide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Evaluation of second iteration deploymen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Review functional requirement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third iteration build for GPS tou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August:  Design update for tour builde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 Final build  of Tour builder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7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October: GPS Tour update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Deployment documentation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Final Deployment of packaged produ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 Complete Documentation for project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repare for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16</a:t>
            </a:r>
            <a:r>
              <a:rPr b="0" lang="en-NZ" sz="15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NZ" sz="1500" spc="-1" strike="noStrike">
                <a:solidFill>
                  <a:srgbClr val="000000"/>
                </a:solidFill>
                <a:latin typeface="Corbel"/>
              </a:rPr>
              <a:t> November: Panel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4:53Z</dcterms:created>
  <dc:creator>Default-User</dc:creator>
  <dc:description/>
  <dc:language>en-US</dc:language>
  <cp:lastModifiedBy>Default-User</cp:lastModifiedBy>
  <dcterms:modified xsi:type="dcterms:W3CDTF">2009-07-31T06:57:49Z</dcterms:modified>
  <cp:revision>18</cp:revision>
  <dc:subject/>
  <dc:title>Sinergetics</dc:title>
</cp:coreProperties>
</file>